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550-D60E-4B00-AF78-41C1868C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D93-CD07-4B74-B379-F7B0377E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6FE-06E1-4541-8CE9-9788AB0C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49A-B8D8-4E97-9094-38DD0862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3990-919A-4035-B6DE-D1BCCD7B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0A44-4E15-4A34-9239-3DBAFAE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EFF4-E21D-45E8-AEE1-4B6BDE96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CF14-96D4-4723-B197-31E7418F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AEF1-CF78-4BE6-8777-C36B561F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A618-A3AF-46D0-B51F-EDFE3B07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5793-D33D-46C0-9376-EBCE4A14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BAE-DAF4-4E9B-B323-E835E383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2827-C31C-4EB5-B4A0-0CCE9875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2B96-E714-4AD1-A9B4-C1661310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C950-8B85-4C93-B936-21579920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3D89-04DF-401F-91B1-84A28234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3B5E-C89B-4A12-9D09-30898609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866-408B-45C5-94B1-5D1A889F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66F-923C-494E-91EE-2897378F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CC0-F286-45C6-84F6-917575E7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25C-738C-4412-92AB-282C0047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EB6-2F7A-4579-AC93-9FBE4148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ABF-4A71-4533-B633-2C395D5B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D6E-EBA8-4DC8-97AD-4ED87B3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9861-9910-47C7-A808-1CF91828F0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1986-7645-4047-860B-00D058497C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ustan.edu/english/reuben/pal/chap5/5intro.html" TargetMode="External"/><Relationship Id="rId2" Type="http://schemas.openxmlformats.org/officeDocument/2006/relationships/hyperlink" Target="http://www.wsu.edu/~campbelld/amlit/lcolor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A Country Divided and Restored- The Civil War and its Aftermath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1860-1915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h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Mark Twa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Fredrick Dougla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lliam Dean Howe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nry Ja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Kate Chop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ank Norr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Stephen Cra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Ambrose Bier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Walt Whit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Jack Lond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Emily Dickin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Bret Har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Kate Chop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25"/>
                </a:solidFill>
                <a:latin typeface="Arial"/>
              </a:rPr>
              <a:t>Willa Cath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/bibli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www.csustan.edu/english/reuben/pal/chap5/5intro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thetalon.andrewhill.org/MISC/unit3a_study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www.wsu.edu/~campbelld/amlit/lcolor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Literaryexplorerer.blondelibrarian.net/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Tim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ivil War- 186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supposed to end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fou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rific and sorrow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’s assass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writer's of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su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lavery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uthern devastation and reconstru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rthern boom in indust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migr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ulation doubled a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 Change in the Count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griculture decreas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dustrialization increas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litical corruption incre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re emphasis on power, control and weal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dealism and positive-ness hard to fin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cribing the actual human experi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cus on the characters rather plot of wri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s control destinies and act on natu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oking for ideal through mora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agmatis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cus on democ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alt with the common man, the common place and the common situations for the ti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ism- 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eat description/ imag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lationships between people and socie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bjectivity/3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erson omniscient point of view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thical issues discuss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sychological issu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picts real life as it 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lism is nothing more and nothing less that the truthful treatment of material- William Dean Howe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ional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276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form of realis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ach area of the country represent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rite in the present day- not past or pres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ocal custo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tting importa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mes- rural vs. urban; adversity for characte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33920" y="16765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as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avery, politics, corruption, 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terrain, gold mining, new way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mps and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estry and mixed bl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id-wes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l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cal Co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orm of regional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al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la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language of a peo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urrences common to ar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ique settings are characters itsel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men often unmarried; men known for unique character tra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ural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wed life even in a more natural light that the realis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 is just a higher order animal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s nature versus nurture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 just reacts/responds to na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cientific in pres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bjectiv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tach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mes- nature’s indiffer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5:31:59Z</dcterms:created>
  <dc:creator>Clark Lunstrum</dc:creator>
  <dc:description/>
  <dc:language>en-US</dc:language>
  <cp:lastModifiedBy>Administator</cp:lastModifiedBy>
  <dcterms:modified xsi:type="dcterms:W3CDTF">2007-03-07T14:52:03Z</dcterms:modified>
  <cp:revision>10</cp:revision>
  <dc:subject/>
  <dc:title>A Country Divided and Restored</dc:title>
</cp:coreProperties>
</file>